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5A0-34E0-4EBC-BCA0-0102B575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77D-9B87-4AC5-9D20-BB39501F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B7350-D9B6-4C76-B90D-54645FC3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CC7D1-9C62-4EC9-9D80-99EA0BC9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623F4-D674-4FEF-8A96-51A767D9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96F85-28E4-4A74-85EC-0C6F812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059A9-A423-4652-A401-A6728E7F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6B29D-127A-4049-920E-50187B6F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9417B-4093-4A74-9B98-B7F92BB5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50A07-6998-4D71-A91A-29EE5A6E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DC12B-2E54-476E-AE66-FD473E06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CBD5A-A337-4DE6-AE2B-9FA39106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287-DC26-41DA-A528-83405287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200F0-9F7F-4733-ADF8-D07E8AC6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9B871-7ACA-4482-9B51-4D193A4A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3336C-6B5E-468E-AF0C-7E4FD68B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B5C4F-A28E-4086-95A2-361BD91D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84C7C-47A3-41F5-8359-586FC579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ED77A-F230-49A2-BA98-92A818DA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9603B-22F8-43F6-BE74-158DB46B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51BE1-CD9F-4FAA-95CD-8447CA29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A82FF-03F5-4538-8767-C56B1613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23296-E510-4EDB-8CC7-0F9892F0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2BF-EDD8-4E4D-A3D4-4A2E40B0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14213-2E8E-4E81-8DDE-AA0B360A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605EB-78B0-403C-83A6-3F730CA8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59687-CA2C-4CC5-85BC-22B1DD38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78268-4726-4245-8DC7-D83133C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E269F-3FC8-4FCE-94CE-B744DC70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5A914-2DE2-4929-A3D5-5B58171B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93873-E62E-48B0-A706-5B6D0504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3A326-F0F3-4EFB-B6A6-B7D1FC34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A1020-E932-4A8E-8042-B5EE0E43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63A5E-9171-4056-85B2-2B8A8C4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23C1-609A-4E21-9E14-FA6DE1CA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2196E-6363-4E67-8D41-797F3B86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9EF2C-C7F9-4B5D-8612-84B1C61D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DD94-A081-400F-83BA-F95BDD03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9A09A-0115-44DC-84E5-6A414545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8FDA9-51F8-42F3-8319-7D4A4459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EBF25-B07D-4669-962D-C92D1F50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4C261-FDA0-443E-A437-0BEAE896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693F4-9183-439A-BCFA-41B990C5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19956-5074-4D35-8836-DACA24A1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E25F1-EC0D-4EFE-B5C2-2C56EB2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BFF3-3CBD-426D-8BD4-5519128A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411DC-6E17-483D-8A85-73EEF5E2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779E4-B884-4D58-8E77-9F161446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D8193-188C-4A9D-BA36-9D6E8BC8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4298B-ECBF-4907-BA1A-25FFBD24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FC89E-E688-4E29-845C-3B2F5A1B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2DF6-7F57-4AD9-A5A8-610FC8B9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C15D-C51D-4EAF-A1DB-831D50E5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A2DB-E277-4553-B661-4D1D65CB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8430-CCE2-44EE-A7CF-7EB11EB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162C-F449-4E50-A32D-115246E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750-BDBC-4FDC-9FC6-7FF5BDD4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162A-A921-4297-9793-37501A2B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C834-20BD-4575-83EA-A9EA34DF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E1BA-BC63-4C2F-AE9D-ECEC8077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B482-C4BD-4220-AAF2-EA678787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AD2F-CF53-433B-9B21-875E0E7F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E527B-8D4D-4359-A2B7-8758D55E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642A-D12D-49CF-BE7C-72334919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52EF7-3192-4209-B7F0-7B1960C4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8CE6-FF7E-475A-9FF2-903BAE0C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98F3-35D1-487D-91AE-4D359D15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5D8-24D6-4125-A0BC-5C0A2474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8CAA-2A44-4B44-BC05-805FECA3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41AB-16E2-4E25-B6C8-B6BB6B1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8226-2468-4167-A5F8-E098C547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47154-0681-4586-9666-71DB2F5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61A9-7422-4871-BC4F-C1D4120D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30A3-46AD-49EA-AD7B-5660870E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507E-0230-4D10-987F-6A642CB3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B0E8-0D4E-450A-954A-E2EEDCE4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73E59-28AA-4D7C-9072-DFC1C736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0A4BB-2887-4A1D-AE66-5FB4A755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6CC-DF92-4CD1-8822-F9214211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931E-D599-46B8-A20A-EFCCB04B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4F48A-4B4B-4AE6-B79B-72332443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402D-C1BA-4CE8-A67E-A1CB69BA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AE32-F88D-4C06-A43A-FB6B90C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99801-140E-493F-8094-29694BCC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42796-A462-4928-89DF-17D5A11F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2ABF3-E7F5-4522-AC1F-22F7814E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AFE7-999F-4522-8A11-E8B143CB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AFBEA-AE50-43EF-8551-DABA08EE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07DA4-360E-4C69-A0EF-7420E3E7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64D-470D-4EE0-B302-E9C42611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4A892-BAF5-4055-AB1A-80DB76DC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A717C-806F-4DA6-9C39-A3067D3D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A577-0117-4955-BA82-E58E854E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602EB-EC5B-4095-A0F0-5C346163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3E76C-9E82-4EDA-8F8C-33002564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35C71-232B-495B-A303-AB891E4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C1387-5DE2-4547-A8FD-61B5051C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7928-AF92-4B9F-A4CC-EC5A2C0F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3EDB8-D26A-433F-B502-BA54DB1F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D38C5-09F4-4B69-B9FF-C328AFD6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0A5-E848-41E5-9990-4D6F9BB7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358DE-2DF3-40F4-833E-4AFBE92C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1AB36-84D4-4D0B-B3AE-CB5D4789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F138E-B3A1-47D0-A882-93E80833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50D6C-8EAB-48DE-A1F8-4BD48531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9809F-4FD8-46BE-BD61-04B7EAD8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01E9C-5196-48C4-A4DD-B7E606B2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3F209-9BCE-4A2A-9F74-BE1D465B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4427E-418B-4F62-909E-387406B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0EDB5-5F02-4920-A44E-6410EBDC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EAD45-2E2E-43F7-81EB-CD930A0B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C81-5A3E-494F-8107-DD542B34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19BF0-81DE-4C7A-B42C-B3929A1B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8EBAB-DF7E-4A28-A13B-2BE7EF0A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C3F31-9F9E-432D-9C47-98AB0F39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26C45-D4AA-4AB3-B68A-C3EEF06A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AD6CA-19FC-4DC3-8B28-C5D838A2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51E9-8080-42EC-A8A6-B5B55AF4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A298C-19C9-4687-A6AC-17DBF7CC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ADA8D-7CDB-4973-BA74-76602105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041F9-5DAC-41F6-8E99-64EEE4F1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0CD9B-409C-4E37-9F71-F56D6DA1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8C3-86B8-4236-A4F1-0B15F349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E51D4-387A-45F2-81D0-5E23B5DA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FEC6-A038-48F2-8E9B-936D763B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E9A42-81BA-4F84-86FF-280AA41D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60736-4643-4F81-8A7C-3302861F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D8374-4744-4F17-8E81-899D1A8B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7AAE2-924F-43DB-8BA3-989D16BE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AAAC0-DB68-493C-8D23-A7E74AB4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52D17-BAA4-4326-A3AF-0C0D7116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343AF-313C-4AC0-8D9E-426BA875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A251A-2C66-4B0F-8340-E6D6E643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690-5F30-4858-A8B8-765FD8F8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F6ABD-418A-4CDC-8633-8E3D01D3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2A31-4159-4147-B93D-1645B6D8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D52D8-B733-4166-870D-AB84EF5B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DB6C1-BC7C-4B76-921D-73E6481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B5C1F-384E-44BA-8344-07F40F8F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014A8-B4C9-41A4-971C-84F55A51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13840-52F0-4787-9C52-5A2168C5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E2BA1-8357-4BD6-AC46-C1435E2F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39C95-A902-4D8C-971F-F1160CFE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2F32C-BD89-41F3-B7B6-741F6718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ECC1-7B3A-4DD6-AF5A-72FA48466F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892E-8778-421B-8985-F9B917C65AE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275F-0DBB-4150-9C19-E34FF3937F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48ED-31EA-49A5-973B-99003D1F22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EFC9-B955-41EF-AD00-B08BEB8C96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0283-0866-4D57-9A79-74C703A563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9F9A-7F9F-4103-9E4D-D6C226C7C3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6D64-6690-46CA-9C96-669CA5C3BA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15BB-B6E9-485D-9730-D6A47337E20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555E-A2FC-40E5-A557-821CE7773B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A82A-B2E1-4E8F-8589-BE95D36A8F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9458-6828-42AA-820C-0F7652B683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88 Príď, Tešiteľ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Tešiteľ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silni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i v každý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modlitb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lam viery v nás rozn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pravdu vždy ct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tme cestu osv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nám v lásk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edieš nás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darí sa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radosť je t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mieru máš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príbytkov sláv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usmerňuj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domov je prav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lasť nadzemských krá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14T18:05:06Z</dcterms:modified>
  <cp:revision>14</cp:revision>
  <dc:subject/>
  <dc:title>Je veľký náš Pán, on slávy je Kráľ Nech do všetkých strán  spev vrúcnych znie chvál.</dc:title>
</cp:coreProperties>
</file>